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DCF-2620-41ED-B7AB-C103C8F2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9AA-46E4-4A9E-9849-A2B405F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C90-C7D7-4FA8-984F-13962DB0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569-9D7A-4FFF-B72C-E2C3333B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B4B-FE4A-49FD-A338-527DF83D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0DF-44D2-4BD1-A3EC-2B3FD2BA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113C-7B44-4C95-A180-563DE88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83B-71AB-46CD-B499-651A615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B19-47F3-4108-BD82-4F4DF47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E0E-88D4-46B3-875E-0072821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63-3B32-4FAE-990B-B3C233B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8E0-48B0-49AC-8D51-6DDE1DE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B2A7-2644-4F5A-BAEF-4FBEF0EC2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VEICAMO PASĀKUMU PLĀNS DARBA AIZSARDZĪBAS JOMĀ</a:t>
            </a:r>
            <a:br>
              <a:rPr sz="2800"/>
            </a:b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PĒC BŪVOBJEKTA APSEKOŠANAS</a:t>
            </a:r>
            <a:r>
              <a:rPr b="1" lang="lv-LV" sz="24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meklējuma datu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%2002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369-D2F7-45F2-81D4-5FE64C6B8C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Elektrovadi ir izvietoti tieši pārvietošanās ceļ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elektrovadus tā, lai tie netraucētu droši pārvietoties ceļ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%20010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26744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7D2-D7DA-4F02-A746-C55174CDC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0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ārvietošanās ceļi apdraud darbinieku un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likt esošajai konstrukcijai pa virsu kādu platāku dēli, lai nebūtu iespējams paklupšanas/aizķeršanās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%2000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647960" cy="36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E62-5AC9-4D60-BE01-6E7BB2C52C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00600" y="15235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Virsma (pārvietošanās ceļi), pa kuru notiek darbinieku kustība ir slidena un ne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mainīt esošo virsmu pret tādu, kura nav slidena un ir 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%2001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9568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774-3E16-4314-B872-F77D1B763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Trepes, pa kurām notiek kustība uz augšējo stāvu nav nostiprinā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tiprināt esošās trepes. Plānot izbūvēt pagaidu kāpnes ar sānu mar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016_labs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354348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F01-B7F3-478E-B6A6-D83C1A0457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3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Uz pārvietošanās ceļiem atrodas dēļi ar nagl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 sekot, lai pārvietošanās ceļos neatrastos dēļi ar nagl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%20020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18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14600" y="2590920"/>
            <a:ext cx="1162080" cy="887400"/>
          </a:xfrm>
          <a:custGeom>
            <a:avLst/>
            <a:gdLst/>
            <a:ahLst/>
            <a:rect l="l" t="t" r="r" b="b"/>
            <a:pathLst>
              <a:path w="732" h="559">
                <a:moveTo>
                  <a:pt x="424" y="0"/>
                </a:moveTo>
                <a:cubicBezTo>
                  <a:pt x="339" y="6"/>
                  <a:pt x="304" y="8"/>
                  <a:pt x="232" y="32"/>
                </a:cubicBezTo>
                <a:cubicBezTo>
                  <a:pt x="232" y="32"/>
                  <a:pt x="172" y="72"/>
                  <a:pt x="160" y="80"/>
                </a:cubicBezTo>
                <a:cubicBezTo>
                  <a:pt x="152" y="85"/>
                  <a:pt x="136" y="96"/>
                  <a:pt x="136" y="96"/>
                </a:cubicBezTo>
                <a:cubicBezTo>
                  <a:pt x="79" y="182"/>
                  <a:pt x="179" y="36"/>
                  <a:pt x="88" y="152"/>
                </a:cubicBezTo>
                <a:cubicBezTo>
                  <a:pt x="18" y="241"/>
                  <a:pt x="104" y="152"/>
                  <a:pt x="40" y="216"/>
                </a:cubicBezTo>
                <a:cubicBezTo>
                  <a:pt x="37" y="224"/>
                  <a:pt x="36" y="232"/>
                  <a:pt x="32" y="240"/>
                </a:cubicBezTo>
                <a:cubicBezTo>
                  <a:pt x="28" y="249"/>
                  <a:pt x="19" y="255"/>
                  <a:pt x="16" y="264"/>
                </a:cubicBezTo>
                <a:cubicBezTo>
                  <a:pt x="8" y="285"/>
                  <a:pt x="0" y="328"/>
                  <a:pt x="0" y="328"/>
                </a:cubicBezTo>
                <a:cubicBezTo>
                  <a:pt x="10" y="401"/>
                  <a:pt x="43" y="445"/>
                  <a:pt x="104" y="488"/>
                </a:cubicBezTo>
                <a:cubicBezTo>
                  <a:pt x="120" y="499"/>
                  <a:pt x="133" y="518"/>
                  <a:pt x="152" y="520"/>
                </a:cubicBezTo>
                <a:cubicBezTo>
                  <a:pt x="176" y="523"/>
                  <a:pt x="200" y="525"/>
                  <a:pt x="224" y="528"/>
                </a:cubicBezTo>
                <a:cubicBezTo>
                  <a:pt x="288" y="544"/>
                  <a:pt x="313" y="546"/>
                  <a:pt x="392" y="552"/>
                </a:cubicBezTo>
                <a:cubicBezTo>
                  <a:pt x="489" y="548"/>
                  <a:pt x="589" y="559"/>
                  <a:pt x="672" y="504"/>
                </a:cubicBezTo>
                <a:cubicBezTo>
                  <a:pt x="712" y="445"/>
                  <a:pt x="700" y="475"/>
                  <a:pt x="712" y="416"/>
                </a:cubicBezTo>
                <a:cubicBezTo>
                  <a:pt x="701" y="155"/>
                  <a:pt x="732" y="288"/>
                  <a:pt x="664" y="152"/>
                </a:cubicBezTo>
                <a:cubicBezTo>
                  <a:pt x="648" y="120"/>
                  <a:pt x="628" y="102"/>
                  <a:pt x="600" y="80"/>
                </a:cubicBezTo>
                <a:cubicBezTo>
                  <a:pt x="585" y="68"/>
                  <a:pt x="552" y="48"/>
                  <a:pt x="552" y="48"/>
                </a:cubicBezTo>
                <a:cubicBezTo>
                  <a:pt x="540" y="11"/>
                  <a:pt x="535" y="24"/>
                  <a:pt x="50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83B-20A3-4A2E-8CF6-06A6C1946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962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edroši uzstādītas sastatnes. Sastatņu sānu margas ir pārāk tālu no sastatņu klāja. Ir iespējams kritiens no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5. Konstatē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ie elektrovadi rada aizķeršanās un paklupšanas ri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drošināt sastatnes ar papildus klāja virs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os elektrovadus izvietot tā, lai tie neapdraudētu darbiniek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%200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724280" cy="3714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895480" y="464832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3809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402-53A3-44F1-A7F9-BB802B31C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 šo vietu notiek darbinieku kustība no balkona platformas uz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izliegt šāda veida kustību. Izvietot sastatnēm gala mar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%2001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378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2285640" y="2133720"/>
            <a:ext cx="2133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4ED-54CB-4BE8-B8D3-DCAA11334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7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Sastatnēm trūkst sānu un galu m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drošināt sastatnes ar galu un sānu marg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25_labs" descr=""/>
          <p:cNvPicPr/>
          <p:nvPr/>
        </p:nvPicPr>
        <p:blipFill>
          <a:blip r:embed="rId1"/>
          <a:stretch/>
        </p:blipFill>
        <p:spPr>
          <a:xfrm>
            <a:off x="847800" y="1447920"/>
            <a:ext cx="34862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7DC-EC7A-40F4-A9FC-44F18DDE95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nes nav nodrošinātas ar piemērotu atbalsta pē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9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ņu pamata augstums pārsniedz pieļaujamo (20cm). Iespējam sastatņu izkustēšan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Nodrošināt sastatnes ar piemērotām pamata “pēdām”. Sastatnes izvietot uz droša pamata, kas nepārsniedz 20cm un ir droši nostiprinā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%2001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2742840" y="1981080"/>
            <a:ext cx="2286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200-D822-4E67-A559-2538B07A91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sekošanā piedalījā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darba aizsardzības daļas vadītājs)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būvlaukuma vadītājs)</a:t>
            </a:r>
            <a:br>
              <a:rPr sz="1800"/>
            </a:br>
            <a:br>
              <a:rPr sz="18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lānu izstrādāja: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darba aizsardzības daļas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r dokumentu iepazino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projektu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8D4-FB7E-4468-A95D-BBA26BF761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160" y="12952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objektā strādā un pārvietojas bez aizsargķiver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 kontrolēt un atgādināt darbiniekiem (t.sk. apakšuzņēmējiem) par aizsargķiveru lietošanas nepieciešamību pārvietojoties un strādājot būvobjek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%200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4DD-0562-47B5-9347-563DCFA8B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balkonu platformām izvietotie priekšmeti var apdraudēt (pastāv iespēja, ka tie var krist) darbinieku un/vai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vākt vai novietot stabilā pozīcijā uz balkonu platformām novietotos priekšme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%2000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648320" cy="3568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124080"/>
            <a:ext cx="6094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7A3-E0B9-41A1-B04A-BE9490ED2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3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Būvlaukuma teritorijā nav iežogoti bīstamie šķēršļi - aku padziļināj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pzīmēt un ierobežot visas bīstamās zonas - norobežot aku padziļinājumus ar signāll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%2002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2362320"/>
            <a:ext cx="2903760" cy="2031840"/>
          </a:xfrm>
          <a:custGeom>
            <a:avLst/>
            <a:gdLst/>
            <a:ahLst/>
            <a:rect l="l" t="t" r="r" b="b"/>
            <a:pathLst>
              <a:path w="1829" h="1280">
                <a:moveTo>
                  <a:pt x="832" y="8"/>
                </a:moveTo>
                <a:cubicBezTo>
                  <a:pt x="797" y="17"/>
                  <a:pt x="747" y="23"/>
                  <a:pt x="712" y="40"/>
                </a:cubicBezTo>
                <a:cubicBezTo>
                  <a:pt x="657" y="67"/>
                  <a:pt x="725" y="49"/>
                  <a:pt x="648" y="64"/>
                </a:cubicBezTo>
                <a:cubicBezTo>
                  <a:pt x="614" y="81"/>
                  <a:pt x="590" y="88"/>
                  <a:pt x="552" y="96"/>
                </a:cubicBezTo>
                <a:cubicBezTo>
                  <a:pt x="489" y="138"/>
                  <a:pt x="571" y="87"/>
                  <a:pt x="496" y="120"/>
                </a:cubicBezTo>
                <a:cubicBezTo>
                  <a:pt x="439" y="145"/>
                  <a:pt x="413" y="166"/>
                  <a:pt x="360" y="184"/>
                </a:cubicBezTo>
                <a:cubicBezTo>
                  <a:pt x="322" y="197"/>
                  <a:pt x="327" y="187"/>
                  <a:pt x="288" y="208"/>
                </a:cubicBezTo>
                <a:cubicBezTo>
                  <a:pt x="243" y="233"/>
                  <a:pt x="203" y="268"/>
                  <a:pt x="160" y="296"/>
                </a:cubicBezTo>
                <a:cubicBezTo>
                  <a:pt x="143" y="322"/>
                  <a:pt x="109" y="358"/>
                  <a:pt x="80" y="368"/>
                </a:cubicBezTo>
                <a:cubicBezTo>
                  <a:pt x="39" y="430"/>
                  <a:pt x="54" y="398"/>
                  <a:pt x="32" y="464"/>
                </a:cubicBezTo>
                <a:cubicBezTo>
                  <a:pt x="29" y="472"/>
                  <a:pt x="24" y="488"/>
                  <a:pt x="24" y="488"/>
                </a:cubicBezTo>
                <a:cubicBezTo>
                  <a:pt x="28" y="677"/>
                  <a:pt x="0" y="776"/>
                  <a:pt x="48" y="920"/>
                </a:cubicBezTo>
                <a:cubicBezTo>
                  <a:pt x="55" y="988"/>
                  <a:pt x="58" y="1062"/>
                  <a:pt x="120" y="1104"/>
                </a:cubicBezTo>
                <a:cubicBezTo>
                  <a:pt x="171" y="1180"/>
                  <a:pt x="238" y="1182"/>
                  <a:pt x="320" y="1200"/>
                </a:cubicBezTo>
                <a:cubicBezTo>
                  <a:pt x="416" y="1221"/>
                  <a:pt x="517" y="1257"/>
                  <a:pt x="616" y="1264"/>
                </a:cubicBezTo>
                <a:cubicBezTo>
                  <a:pt x="675" y="1268"/>
                  <a:pt x="733" y="1269"/>
                  <a:pt x="792" y="1272"/>
                </a:cubicBezTo>
                <a:cubicBezTo>
                  <a:pt x="837" y="1274"/>
                  <a:pt x="883" y="1277"/>
                  <a:pt x="928" y="1280"/>
                </a:cubicBezTo>
                <a:cubicBezTo>
                  <a:pt x="1161" y="1274"/>
                  <a:pt x="1227" y="1277"/>
                  <a:pt x="1408" y="1232"/>
                </a:cubicBezTo>
                <a:cubicBezTo>
                  <a:pt x="1437" y="1212"/>
                  <a:pt x="1509" y="1177"/>
                  <a:pt x="1528" y="1152"/>
                </a:cubicBezTo>
                <a:cubicBezTo>
                  <a:pt x="1560" y="1109"/>
                  <a:pt x="1603" y="1070"/>
                  <a:pt x="1648" y="1040"/>
                </a:cubicBezTo>
                <a:cubicBezTo>
                  <a:pt x="1676" y="998"/>
                  <a:pt x="1707" y="960"/>
                  <a:pt x="1736" y="920"/>
                </a:cubicBezTo>
                <a:cubicBezTo>
                  <a:pt x="1776" y="864"/>
                  <a:pt x="1734" y="911"/>
                  <a:pt x="1760" y="864"/>
                </a:cubicBezTo>
                <a:cubicBezTo>
                  <a:pt x="1781" y="825"/>
                  <a:pt x="1802" y="802"/>
                  <a:pt x="1816" y="760"/>
                </a:cubicBezTo>
                <a:cubicBezTo>
                  <a:pt x="1816" y="748"/>
                  <a:pt x="1829" y="554"/>
                  <a:pt x="1792" y="488"/>
                </a:cubicBezTo>
                <a:cubicBezTo>
                  <a:pt x="1764" y="438"/>
                  <a:pt x="1754" y="434"/>
                  <a:pt x="1712" y="392"/>
                </a:cubicBezTo>
                <a:cubicBezTo>
                  <a:pt x="1704" y="384"/>
                  <a:pt x="1688" y="368"/>
                  <a:pt x="1688" y="368"/>
                </a:cubicBezTo>
                <a:cubicBezTo>
                  <a:pt x="1685" y="360"/>
                  <a:pt x="1686" y="350"/>
                  <a:pt x="1680" y="344"/>
                </a:cubicBezTo>
                <a:cubicBezTo>
                  <a:pt x="1670" y="334"/>
                  <a:pt x="1601" y="286"/>
                  <a:pt x="1584" y="280"/>
                </a:cubicBezTo>
                <a:cubicBezTo>
                  <a:pt x="1555" y="236"/>
                  <a:pt x="1584" y="273"/>
                  <a:pt x="1544" y="240"/>
                </a:cubicBezTo>
                <a:cubicBezTo>
                  <a:pt x="1528" y="227"/>
                  <a:pt x="1520" y="205"/>
                  <a:pt x="1504" y="192"/>
                </a:cubicBezTo>
                <a:cubicBezTo>
                  <a:pt x="1484" y="175"/>
                  <a:pt x="1417" y="150"/>
                  <a:pt x="1392" y="144"/>
                </a:cubicBezTo>
                <a:cubicBezTo>
                  <a:pt x="1336" y="107"/>
                  <a:pt x="1265" y="64"/>
                  <a:pt x="1200" y="48"/>
                </a:cubicBezTo>
                <a:cubicBezTo>
                  <a:pt x="1127" y="0"/>
                  <a:pt x="1035" y="8"/>
                  <a:pt x="952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C11-2E14-42C9-B132-20472AF14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5238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Jaunbūvē nav norobežotas liftu šah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pie liftu šahtām pagaidu aizsargnorobežojumus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%2001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724640" cy="360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350532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F21-8806-4FD2-87A5-35486CACE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5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Darbinieki, veicot darbus objektā, neievēro vispārējās darba drošības prasības, t.i., veicot darbus pie atklātām malām, netiek lietoti aizsardzības līdzekļi – drošības jostas, aizsargnožogo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stāvīgi informēt darbiniekus par vispārējo darba drošības prasību ievērošanu objekt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%2000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%20003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B59-6439-497A-A52C-7EBA1BBE14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p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07_lab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67848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33D-2E37-403D-AF27-C03996748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7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09_lab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52680" y="5181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799-4670-4594-8FF1-2EADD84C0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av noslēgtas balkona dur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lēgt visas balkona durvis uz laiku, kad uz balkona platformām netiek veikti darb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irms veikt darbus uz balkonu platformām, tās attīrīt no sniega un le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008_labs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71448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DCD-0F87-4DFB-A15A-9FFD62297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38:42Z</dcterms:created>
  <dc:creator>HenrijsP</dc:creator>
  <dc:description/>
  <dc:language>en-US</dc:language>
  <cp:lastModifiedBy>HenrijsP</cp:lastModifiedBy>
  <dcterms:modified xsi:type="dcterms:W3CDTF">2006-09-13T10:12:42Z</dcterms:modified>
  <cp:revision>11</cp:revision>
  <dc:subject/>
  <dc:title>VEICAMO PASĀKUMU PLĀNS DARBA AIZSARDZĪBAS JOMĀ PĒC BŪVOBJEKTA APSEKOŠANAS  </dc:title>
</cp:coreProperties>
</file>